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9A2-BE7D-469F-8AED-2A806947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FF1-23E3-4CE6-996D-ABB8E221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3FB-04FA-4893-B66C-E4008A51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D94-A6C5-403F-8903-BF951519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8974-E619-4B8B-875C-EF935867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68F3-3254-4BE9-96DF-ED3B37D2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4B59-18DA-498F-8612-D7AD6755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DA9D-D5EE-40EB-9F96-1438BA03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0ACE-D0B8-40F5-A441-3A114EF7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2F30-B636-48E3-BD38-33000C7F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C69C-9B0C-46AB-A25A-F5A02379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2EA-D0EA-4245-ABC3-C481F5D7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DCBD-B4AE-4F74-BA1D-D78059D1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5D24-615B-4434-865E-03EF7C90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22CA-AE49-4A18-A09E-04F7B539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733B-C122-4FFD-8117-5E5DED3B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B3AA-0B11-4139-AD58-31F1D472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A01-5CF3-42B2-99B0-C9EAE5D2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816-6DB8-4BCD-93D8-70AE99AD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7A3-7D25-4F47-A98D-48979A0C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D03-3741-4E7C-82FA-47DC9739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22A-A93D-42D3-80D0-1BE46E96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D5E-CB28-40B7-95DC-286666E8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0E7-2243-44BC-9C0C-DB9E4C77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1FAB-8CBB-4A14-A218-CE92137020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3A94-60E1-4FDE-A74D-42220B297E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8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Tahoma"/>
              </a:rPr>
              <a:t>Город герой</a:t>
            </a:r>
            <a:br>
              <a:rPr sz="8000"/>
            </a:br>
            <a:r>
              <a:rPr b="1" lang="en-US" sz="8000" spc="-1" strike="noStrike">
                <a:solidFill>
                  <a:srgbClr val="ffffcc"/>
                </a:solidFill>
                <a:latin typeface="Tahoma"/>
              </a:rPr>
              <a:t>Сталинград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00720" y="5589720"/>
            <a:ext cx="43113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гаутдинов Русл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-б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«Вихоревская СОШ №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260280"/>
            <a:ext cx="60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К 65-летию Побе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0920" y="4005000"/>
            <a:ext cx="7848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ходе зимней кампании 1942/43 годов советские войска добились значительного успеха и заняли выгодный плацдарм для новых наступательных операц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3961080" cy="301932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 праздником Победы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124000" cy="345600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талинградская битва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17 июля 1942 г. – 2 февраля 1943 г.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6624720" cy="482436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4724280"/>
            <a:ext cx="2305080" cy="184464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тери армии Герман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800 тыс. челове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000 тан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000 самоле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000 оруд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3959280" cy="220212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16360" y="4005360"/>
            <a:ext cx="3959280" cy="230328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960720" cy="230328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Контрнаступление советских войск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( 19-23 ноября 1942 г.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16072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032360" cy="216072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2360" cy="215928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4105440" cy="215928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Город превратился в руины …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16072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888000" cy="216072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8360" y="3924360"/>
            <a:ext cx="4032360" cy="217152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3888000" cy="215928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00 дней и ночей 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1512720" cy="180000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3024360" cy="183204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3024360" cy="180000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651640" y="1916280"/>
            <a:ext cx="3024000" cy="180000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780000" y="3429000"/>
            <a:ext cx="1520640" cy="187164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5651640" y="4292640"/>
            <a:ext cx="3024000" cy="188280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00360" y="259920"/>
            <a:ext cx="43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Место упорных боёв - бывшая мельница  и Дом Павлов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816360" cy="231624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443640" y="3645000"/>
            <a:ext cx="2135160" cy="273528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59280" y="134676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ужественно и успешно обороняли этот дом гвардейцы , 58 дней и ночей отражая атаки превосходящих сил гитлеровце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716280"/>
            <a:ext cx="51228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ентябре 1942 году под обстрелом врага переправили в горящий  Сталинград  13-ю стреловая дивизия генерала </a:t>
            </a:r>
            <a:r>
              <a:rPr b="1" lang="ru-RU" sz="2000" spc="-1" strike="noStrike" u="sng">
                <a:solidFill>
                  <a:srgbClr val="ffcc66"/>
                </a:solidFill>
                <a:uFillTx/>
                <a:latin typeface="Tahoma"/>
              </a:rPr>
              <a:t>А.И. Родимце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оторая сходу вступила в ожесточенные бои, продолжавшиеся до  полного освобождения гор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842920" y="188640"/>
            <a:ext cx="5616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ерация по ликвидации окруженной группировки была возложена на войска Донского фронта. Общее руководство осуществлял представитель Ставки генерал-полковник </a:t>
            </a:r>
            <a:r>
              <a:rPr b="1" lang="en-US" sz="2400" spc="-1" strike="noStrike" u="sng">
                <a:solidFill>
                  <a:srgbClr val="ffcc66"/>
                </a:solidFill>
                <a:uFillTx/>
                <a:latin typeface="Tahoma"/>
              </a:rPr>
              <a:t>Н.Н. Ворон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1931760" cy="280836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56360" y="3716280"/>
            <a:ext cx="2408040" cy="266544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179280" y="3716280"/>
            <a:ext cx="5616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2 феврал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генерал-фельдмаршал Паулюс, подписал акт о капитуля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январе – феврале 1943 год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ходе боев были взяты в плен 91 545 солдат и офицеров, в том числе 24 генерал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91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окрушительное поражение под Сталинградом, где противник потерял около 25% своей армии на востоке, до основания потрясло гитлеровскую империю, резко подорвало моральных дух ее армии и населения. В Германии был объявлен трехдневный траур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2212920" cy="295272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711520" cy="2952720"/>
          </a:xfrm>
          <a:prstGeom prst="rect">
            <a:avLst/>
          </a:prstGeom>
          <a:ln w="38160">
            <a:solidFill>
              <a:srgbClr val="be796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68360" y="5084640"/>
            <a:ext cx="8434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талинградская битва подняла авторитет СССР как государств, способного спасти человечество от фашизма, привела к новому мощному подъему движения Сопротивления в оккупированных странах Европы, способствовала укреплению антигитлеровской коалиц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0:12:04Z</dcterms:created>
  <dc:creator>Покоёнок Л.М. </dc:creator>
  <dc:description/>
  <dc:language>en-US</dc:language>
  <cp:lastModifiedBy>проба</cp:lastModifiedBy>
  <dcterms:modified xsi:type="dcterms:W3CDTF">2010-01-28T15:24:29Z</dcterms:modified>
  <cp:revision>12</cp:revision>
  <dc:subject/>
  <dc:title>Город герой Сталинград</dc:title>
</cp:coreProperties>
</file>